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E17-B69A-43AA-A722-64706D4D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F5A-6B64-40B1-874E-C32BDB4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B76-60A0-465E-8184-F19EBF6E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9C7-DB76-407D-88AD-834D28B6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521-B0F3-4D95-8102-CC5F6472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1317-4DCC-414D-8379-DD1F7E8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C4E-814B-48B8-A9FF-91E70A5A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3CA-28AE-48AC-947A-36483B7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1936-D341-4FDA-987C-C3978AA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2DFD-94D4-41E6-8C44-08815C5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FA5-8351-4E92-B79F-37475EA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C27-7896-424B-A2D5-A71000DE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871-A234-4922-9AAA-FA2D220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E7B-B437-4591-8B10-36174A2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D883-2248-4496-B509-E622DD3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E470-320B-41F0-81F8-890897DE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CA5-73A7-45CD-ACAF-19BC12E7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12C-A0F2-4F9A-BB94-93968480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914-A024-458D-AFB0-8F3F32D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2E7-26A7-440D-AAE8-A3F238FA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4F8-582F-4AA9-B3DF-505F062E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4F4-8C6D-49A9-9F23-2400578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9A0-7FA3-4E13-B535-7B240629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13D-079F-4036-8750-8EFA645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14DF-79A2-4381-AFCE-0020D830D3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883-FA78-43FC-8D6B-60DE73121F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urces of Instructional Goa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– What does the child need to know developmentall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 – What does the child need to know in order to be able to function well in our societ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Disciplines – What content within a discipline is important to tea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shine State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bjectives in the                        schools tend to come                             from the cognitive                            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ve domain most referred to: Bloom’s Taxonomy of Educational Objectives; six hierarchical lev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3493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ree-Phase Approach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or Teaching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– select goal and approach means by which to achie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ing – actual performance of a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ng –                         determining if                        instruction has                              been success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800600" y="397188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me Base Grou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appropriate at the upper elementary, middle school, and lower high schools lev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fully-arranged groups to work together on projects and other such assignments over a period of time.  May or may not meet outside of class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oup Guidelines/R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groups are formed, as a group you are to come up with a team name and motto or slo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come up with                      guidelines/rules by                              which your group will                       op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group members should contribute to the list and all members should agree on the guidelin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181480" y="31496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3-08-26T16:16:42Z</dcterms:modified>
  <cp:revision>204</cp:revision>
  <dc:subject/>
  <dc:title>Slide 1</dc:title>
</cp:coreProperties>
</file>